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2F1-1885-4F1B-8759-F68FEA4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32C-0DD4-4FBE-B7C9-69CAFD5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332-AA0E-4D66-9DE8-63DA6442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FCB-3FA0-4816-9CDB-9902553B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E351-E255-4B57-BE25-8445F760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3926-29C7-4552-A558-34C6152D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10EA-5371-4B58-9397-0815D00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09B4-36BD-44AF-AD94-94A6CB23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134-FABE-4A17-9184-DF212300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355-C0DF-4DBB-BDAD-C599278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8E9-6C19-4658-A7A1-0165B27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966-7EBF-4E7E-81D7-14D2E54C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18C-C7FB-4812-A10B-C7C8152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0847-CA1D-4668-9B74-58DB8E6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DF55-0D70-45E0-B5DB-AF6A0C96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4C9-4588-44DB-9C80-AF391EE3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A66B-E2E2-419B-B84B-AC7300AD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88A-15F9-4E32-82DC-0C30E371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957-979F-4B33-B5C9-D9C4A3C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B24-EB33-4A13-A0B7-91DB5430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957-472F-4CAC-921E-C294CD81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2B5-C336-4464-ACAD-3B86E12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B6A-B421-4D29-8AF1-C32FA3F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7B9-4665-4EB3-A91F-5BEC7AB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301-2437-456A-B6B5-0988BCD5BE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3C75-D451-4F18-A37B-166F890D9B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g. 3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-Fun Stu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rs. Hampton here to talk to yo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un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un writing assig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ons of organisms live in and on our odies, the human armpit for instence has up to 500 million bacteria in the space of a tiny insignificant pinh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nch author George Sand born July 1 1804 was a well known rebel for the following reasons among others she dressed in mens clothes and smoked ciga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ngible:touch::audible:_________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x:Sly_________:w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un Re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ing assig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07:55Z</dcterms:created>
  <dc:creator>VMS</dc:creator>
  <dc:description/>
  <dc:language>en-US</dc:language>
  <cp:lastModifiedBy>VMS</cp:lastModifiedBy>
  <dcterms:modified xsi:type="dcterms:W3CDTF">2009-08-31T13:19:43Z</dcterms:modified>
  <cp:revision>2</cp:revision>
  <dc:subject/>
  <dc:title>Aug. 31</dc:title>
</cp:coreProperties>
</file>